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AD914-4C8E-455D-B41F-94AAB9496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8AFD4-F3A8-473B-99F4-C01D4A02D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9DAC0-3F3B-42E4-86AD-2D071B0BA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3E9B3-FDB3-4B64-AACC-70C9A563D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192A1-0741-4510-8C35-16C7CC249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A613D-F321-4558-9F26-5D3CF2B54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A6CC2-6DCF-4A59-A949-634247A6F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C3A44-DC1D-4179-B084-4FD7B13CE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387DE-A0B8-4444-9BA9-B3BDA0D8F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706B7-891C-40A1-B659-5B5F21A1C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4E767-507B-42E9-9290-B1617F847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47D57-3A88-45D8-A549-0F1A2B5A39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54A92-95DD-4DC4-8366-0DAC072F63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video" Target="file:///tmp/home/.config/libreoffice/4/user/gallery/Recorded%20Sound" TargetMode="External"/><Relationship Id="rId3" Type="http://schemas.microsoft.com/office/2007/relationships/media" Target="file:///tmp/home/.config/libreoffice/4/user/gallery/Recorded%20Sound" TargetMode="External"/><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video" Target="file:///tmp/home/.config/libreoffice/4/user/gallery/Recorded%20Sound" TargetMode="External"/><Relationship Id="rId2" Type="http://schemas.microsoft.com/office/2007/relationships/media" Target="file:///tmp/home/.config/libreoffice/4/user/gallery/Recorded%20Sound" TargetMode="External"/><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video" Target="file:///tmp/home/.config/libreoffice/4/user/gallery/Recorded%20Sound" TargetMode="External"/><Relationship Id="rId2" Type="http://schemas.microsoft.com/office/2007/relationships/media" Target="file:///tmp/home/.config/libreoffice/4/user/gallery/Recorded%20Sound"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video" Target="file:///tmp/home/.config/libreoffice/4/user/gallery/Recorded%20Sound" TargetMode="External"/><Relationship Id="rId3" Type="http://schemas.microsoft.com/office/2007/relationships/media" Target="file:///tmp/home/.config/libreoffice/4/user/gallery/Recorded%20Sound" TargetMode="Externa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video" Target="file:///tmp/home/.config/libreoffice/4/user/gallery/Recorded%20Sound" TargetMode="External"/><Relationship Id="rId2" Type="http://schemas.microsoft.com/office/2007/relationships/media" Target="file:///tmp/home/.config/libreoffice/4/user/gallery/Recorded%20Sound"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video" Target="file:///tmp/home/.config/libreoffice/4/user/gallery/Recorded%20Sound" TargetMode="External"/><Relationship Id="rId2" Type="http://schemas.microsoft.com/office/2007/relationships/media" Target="file:///tmp/home/.config/libreoffice/4/user/gallery/Recorded%20Sound"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0ee7"/>
            </a:gs>
            <a:gs pos="100000">
              <a:srgbClr val="66006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936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0ee7"/>
                </a:solidFill>
                <a:latin typeface="Arial"/>
              </a:rPr>
              <a:t>HENRY’S FREEDOM BOX</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ff"/>
                </a:solidFill>
                <a:latin typeface="Castellar"/>
              </a:rPr>
              <a:t>A RETOLD STORY BY JADA FLOWERS</a:t>
            </a:r>
            <a:endParaRPr b="0" lang="en-US" sz="3200" spc="-1" strike="noStrike">
              <a:solidFill>
                <a:srgbClr val="000000"/>
              </a:solidFill>
              <a:latin typeface="Arial"/>
            </a:endParaRPr>
          </a:p>
        </p:txBody>
      </p:sp>
      <p:pic>
        <p:nvPicPr>
          <p:cNvPr id="43" name="" descr=""/>
          <p:cNvPicPr/>
          <p:nvPr/>
        </p:nvPicPr>
        <p:blipFill>
          <a:blip r:embed="rId1"/>
          <a:stretch/>
        </p:blipFill>
        <p:spPr>
          <a:xfrm>
            <a:off x="7075440" y="92160"/>
            <a:ext cx="1816200" cy="1674720"/>
          </a:xfrm>
          <a:prstGeom prst="rect">
            <a:avLst/>
          </a:prstGeom>
          <a:ln w="0">
            <a:noFill/>
          </a:ln>
        </p:spPr>
      </p:pic>
      <p:pic>
        <p:nvPicPr>
          <p:cNvPr id="44" name="" descr="">
            <a:hlinkClick r:id="" action="ppaction://media"/>
          </p:cNvPr>
          <p:cNvPicPr/>
          <p:nvPr>
            <a:videoFile r:link="rId2"/>
            <p:extLst>
              <p:ext uri="{DAA4B4D4-6D71-4841-9C94-3DE7FCFB9230}">
                <p14:media r:link="rId3"/>
              </p:ext>
            </p:extLst>
          </p:nvPr>
        </p:nvPicPr>
        <p:blipFill>
          <a:blip r:embed="rId4"/>
          <a:stretch>
            <a:fillRect/>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p:stCondLst>
                                    <p:cond delay="0"/>
                                  </p:stCondLst>
                                  <p:childTnLst>
                                    <p:animMotion origin="layout" path="M -0.15556 0.04023 C -0.16458 0.0289 -0.17917 0.02543 -0.19062 0.02127 C -0.19757 0.01873 -0.20434 0.01503 -0.21128 0.01272 C -0.21632 0.0111 -0.2217 0.00994 -0.22708 0.00856 C -0.22969 0.00786 -0.23507 0.00647 -0.23507 0.00647 C -0.27292 0.00763 -0.31649 0.00231 -0.35417 0.01896 C -0.37899 0.01827 -0.40382 0.01873 -0.42865 0.01688 C -0.44358 0.01572 -0.45121 -0.00532 -0.46354 -0.01272 C -0.46892 -0.01595 -0.47517 -0.01526 -0.48108 -0.01688 C -0.49757 -0.01549 -0.51007 -0.0141 -0.52552 -0.01064 C -0.54132 -0.01133 -0.55746 -0.01087 -0.57326 -0.01272 C -0.575 -0.01295 -0.57604 -0.01595 -0.57778 -0.01688 C -0.58437 -0.02081 -0.58854 -0.02127 -0.59531 -0.02312 C -0.60903 -0.03075 -0.61424 -0.02936 -0.63021 -0.02751 C -0.63455 -0.02127 -0.63837 -0.01457 -0.64306 -0.00832 C -0.64566 0.00254 -0.64236 -0.00578 -0.64948 0.00208 C -0.65208 0.00532 -0.65486 0.00925 -0.65729 0.01272 C -0.65816 0.01387 -0.6684 0.01688 -0.6684 0.01688 C -0.67691 0.01942 -0.68524 0.02266 -0.69375 0.02543 C -0.70243 0.02428 -0.7158 0.0259 -0.72222 0.01688 C -0.72292 -0.00347 -0.71528 -0.03214 -0.73194 -0.04023 C -0.73542 -0.03954 -0.73958 -0.03977 -0.74288 -0.03792 C -0.74653 -0.03607 -0.74878 -0.03121 -0.75243 -0.0296 C -0.75399 -0.0289 -0.75573 -0.02821 -0.75729 -0.02751 C -0.76597 -0.01942 -0.76788 -0.0104 -0.77465 -1.15607E-007 C -0.78455 0.0148 -0.79271 0.03306 -0.80347 0.04647 C -0.80503 0.05503 -0.8059 0.06358 -0.80799 0.07191 C -0.81059 0.09249 -0.81424 0.11353 -0.8191 0.13318 C -0.82205 0.14497 -0.82222 0.13919 -0.82708 0.15006 C -0.83299 0.16347 -0.8342 0.16624 -0.83976 0.17757 C -0.84028 0.17965 -0.84062 0.18197 -0.84132 0.18405 C -0.84219 0.18636 -0.84375 0.18798 -0.84444 0.19029 C -0.84549 0.19376 -0.84514 0.19746 -0.84618 0.20092 C -0.84948 0.21179 -0.85521 0.2252 -0.86042 0.23468 C -0.86215 0.24139 -0.86493 0.24486 -0.86667 0.25156 C -0.86493 0.27306 -0.86476 0.2904 -0.84774 0.29803 C -0.84375 0.30335 -0.84149 0.30775 -0.83976 0.31491 C -0.83681 0.36925 -0.83733 0.3489 -0.83976 0.43329 C -0.84028 0.44879 -0.84149 0.4585 -0.85087 0.46728 C -0.85434 0.47422 -0.85851 0.47931 -0.86198 0.48624 C -0.86302 0.49225 -0.86493 0.49711 -0.86198 0.50312 C -0.86059 0.5059 -0.85469 0.5089 -0.85243 0.5096 C -0.83906 0.51376 -0.82483 0.51561 -0.81128 0.51792 C -0.8092 0.53064 -0.80712 0.53965 -0.80347 0.55168 C -0.80052 0.56971 -0.79826 0.58682 -0.7908 0.60254 C -0.78437 0.63237 -0.77465 0.64231 -0.75399 0.6511 C -0.74809 0.65364 -0.74444 0.66335 -0.73837 0.66382 C -0.72014 0.6652 -0.70243 0.6652 -0.6842 0.6659 C -0.68264 0.66659 -0.68108 0.66751 -0.67951 0.66798 C -0.66788 0.67052 -0.6559 0.67075 -0.64462 0.67445 C -0.64236 0.67514 -0.64149 0.67884 -0.63976 0.68069 C -0.63108 0.69087 -0.62292 0.70035 -0.61285 0.70821 C -0.60573 0.72116 -0.59288 0.73318 -0.58108 0.7378 C -0.57795 0.73896 -0.57465 0.73896 -0.57153 0.73988 C -0.56944 0.74035 -0.56719 0.74104 -0.5651 0.74197 C -0.55816 0.74474 -0.55174 0.74821 -0.54444 0.75052 C -0.53663 0.75769 -0.52812 0.75746 -0.5191 0.76324 C -0.51354 0.76694 -0.50191 0.77549 -0.49531 0.77595 C -0.46632 0.77803 -0.43715 0.77734 -0.40799 0.77803 C -0.38733 0.79168 -0.38559 0.7859 -0.35417 0.78428 C -0.34045 0.77827 -0.32552 0.78173 -0.31111 0.77803 C -0.29705 0.76486 -0.2908 0.77225 -0.2684 0.77364 C -0.25608 0.77827 -0.24444 0.78659 -0.23194 0.78844 C -0.21181 0.79121 -0.17153 0.79283 -0.17153 0.79283 C -0.14236 0.79145 -0.11319 0.79145 -0.0842 0.78844 C -0.07708 0.78775 -0.06267 0.77873 -0.05556 0.77595 C -0.02934 0.76578 -0.00226 0.76185 0.02379 0.75052 C 0.03264 0.74266 0.04201 0.73526 0.05069 0.72717 C 0.05972 0.69665 0.04514 0.74312 0.06181 0.70197 C 0.06267 0.69965 0.06788 0.67584 0.06823 0.67445 C 0.06875 0.6696 0.06858 0.66428 0.06979 0.65965 C 0.0717 0.65225 0.07778 0.63838 0.07778 0.63838 C 0.08194 0.59908 0.08177 0.56069 0.07292 0.52208 C 0.07118 0.50173 0.07205 0.48069 0.06823 0.46081 C 0.06146 0.42497 0.05417 0.39006 0.05069 0.35306 C 0.05313 0.29896 0.05139 0.27607 0.06823 0.23052 C 0.07448 0.21364 0.0783 0.19746 0.08247 0.17965 C 0.08385 0.17318 0.08715 0.16069 0.08715 0.16069 C 0.08611 0.15861 0.08542 0.15607 0.08403 0.15445 C 0.08281 0.15306 0.08038 0.15376 0.07934 0.15214 C 0.07396 0.14358 0.07431 0.12809 0.06667 0.12254 E">
                                      <p:cBhvr>
                                        <p:cTn id="6" dur="5000" fill="hold"/>
                                        <p:tgtEl>
                                          <p:spTgt spid="43"/>
                                        </p:tgtEl>
                                      </p:cBhvr>
                                    </p:animMotion>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4"/>
                    </p:tgtEl>
                  </p:cond>
                </p:stCondLst>
                <p:childTnLst>
                  <p:par>
                    <p:cTn id="8" fill="hold">
                      <p:stCondLst>
                        <p:cond evt="onClick">
                          <p:tgtEl>
                            <p:spTgt spid="44"/>
                          </p:tgtEl>
                        </p:cond>
                      </p:stCondLst>
                      <p:childTnLst>
                        <p:par>
                          <p:cTn id="9" fill="hold">
                            <p:stCondLst>
                              <p:cond delay="0"/>
                            </p:stCondLst>
                            <p:childTnLst>
                              <p:par>
                                <p:cTn id="10" nodeType="clickEffect" fill="hold" presetClass="mediacall" presetID="1">
                                  <p:stCondLst>
                                    <p:cond delay="0"/>
                                  </p:stCondLst>
                                  <p:childTnLst>
                                    <p:cmd type="call" cmd="playFrom(0.0)">
                                      <p:cBhvr>
                                        <p:cTn id="11" dur="6000"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33339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nry  Brown  wasn’t  sure  how  old he was. Henry was slave, and slave weren’t allowed to know their birthdays.</a:t>
            </a:r>
            <a:endParaRPr b="0" lang="en-US" sz="4000" spc="-1" strike="noStrike">
              <a:solidFill>
                <a:srgbClr val="000000"/>
              </a:solidFill>
              <a:latin typeface="Arial"/>
            </a:endParaRPr>
          </a:p>
        </p:txBody>
      </p:sp>
      <p:pic>
        <p:nvPicPr>
          <p:cNvPr id="46" name="" descr="">
            <a:hlinkClick r:id="" action="ppaction://media"/>
          </p:cNvPr>
          <p:cNvPicPr/>
          <p:nvPr>
            <a:videoFile r:link="rId1"/>
            <p:extLst>
              <p:ext uri="{DAA4B4D4-6D71-4841-9C94-3DE7FCFB9230}">
                <p14:media r:link="rId2"/>
              </p:ext>
            </p:extLst>
          </p:nvPr>
        </p:nvPicPr>
        <p:blipFill>
          <a:blip r:embed="rId3"/>
          <a:stretch>
            <a:fillRect/>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restart="whenNotActive" nodeType="interactiveSeq" fill="hold">
                <p:stCondLst>
                  <p:cond evt="onClick">
                    <p:tgtEl>
                      <p:spTgt spid="46"/>
                    </p:tgtEl>
                  </p:cond>
                </p:stCondLst>
                <p:childTnLst>
                  <p:par>
                    <p:cTn id="14" fill="hold">
                      <p:stCondLst>
                        <p:cond evt="onClick">
                          <p:tgtEl>
                            <p:spTgt spid="46"/>
                          </p:tgtEl>
                        </p:cond>
                      </p:stCondLst>
                      <p:childTnLst>
                        <p:par>
                          <p:cTn id="15" fill="hold">
                            <p:stCondLst>
                              <p:cond delay="0"/>
                            </p:stCondLst>
                            <p:childTnLst>
                              <p:par>
                                <p:cTn id="16" nodeType="clickEffect" fill="hold" presetClass="mediacall" presetID="1">
                                  <p:stCondLst>
                                    <p:cond delay="0"/>
                                  </p:stCondLst>
                                  <p:childTnLst>
                                    <p:cmd type="call" cmd="playFrom(0.0)">
                                      <p:cBhvr>
                                        <p:cTn id="17" dur="10000"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50000">
              <a:srgbClr val="660066"/>
            </a:gs>
            <a:gs pos="100000">
              <a:srgbClr val="00ccff"/>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nry</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Henry and his brother  sisters  worked in the big house where the master lived. Henry’s master had been good to Henry and his family. But Henry’s mother knew things could change. Do you see those leaves blowing in the wind? They are torn form the trees like slave  childern  are torn from  their  families.</a:t>
            </a:r>
            <a:endParaRPr b="0" lang="en-US" sz="3200" spc="-1" strike="noStrike">
              <a:solidFill>
                <a:srgbClr val="000000"/>
              </a:solidFill>
              <a:latin typeface="Arial"/>
            </a:endParaRPr>
          </a:p>
        </p:txBody>
      </p:sp>
      <p:pic>
        <p:nvPicPr>
          <p:cNvPr id="49" name="" descr="">
            <a:hlinkClick r:id="" action="ppaction://media"/>
          </p:cNvPr>
          <p:cNvPicPr/>
          <p:nvPr>
            <a:videoFile r:link="rId1"/>
            <p:extLst>
              <p:ext uri="{DAA4B4D4-6D71-4841-9C94-3DE7FCFB9230}">
                <p14:media r:link="rId2"/>
              </p:ext>
            </p:extLst>
          </p:nvPr>
        </p:nvPicPr>
        <p:blipFill>
          <a:blip r:embed="rId3"/>
          <a:stretch>
            <a:fillRect/>
          </a:stretch>
        </p:blipFill>
        <p:spPr>
          <a:xfrm>
            <a:off x="2895480" y="990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restart="whenNotActive" nodeType="interactiveSeq" fill="hold">
                <p:stCondLst>
                  <p:cond evt="onClick">
                    <p:tgtEl>
                      <p:spTgt spid="49"/>
                    </p:tgtEl>
                  </p:cond>
                </p:stCondLst>
                <p:childTnLst>
                  <p:par>
                    <p:cTn id="20" fill="hold">
                      <p:stCondLst>
                        <p:cond evt="onClick">
                          <p:tgtEl>
                            <p:spTgt spid="49"/>
                          </p:tgtEl>
                        </p:cond>
                      </p:stCondLst>
                      <p:childTnLst>
                        <p:par>
                          <p:cTn id="21" fill="hold">
                            <p:stCondLst>
                              <p:cond delay="0"/>
                            </p:stCondLst>
                            <p:childTnLst>
                              <p:par>
                                <p:cTn id="22" nodeType="clickEffect" fill="hold" presetClass="mediacall" presetID="1">
                                  <p:stCondLst>
                                    <p:cond delay="0"/>
                                  </p:stCondLst>
                                  <p:childTnLst>
                                    <p:cmd type="call" cmd="playFrom(0.0)">
                                      <p:cBhvr>
                                        <p:cTn id="23" dur="21000"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66ff33"/>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 </a:t>
            </a:r>
            <a:r>
              <a:rPr b="0" lang="en-US" sz="2800" spc="-1" strike="noStrike">
                <a:solidFill>
                  <a:srgbClr val="660066"/>
                </a:solidFill>
                <a:latin typeface="Arial"/>
              </a:rPr>
              <a:t>One morning  the master called</a:t>
            </a:r>
            <a:r>
              <a:rPr b="0" lang="en-US" sz="2800" spc="-1" strike="noStrike">
                <a:solidFill>
                  <a:srgbClr val="000000"/>
                </a:solidFill>
                <a:latin typeface="Arial"/>
              </a:rPr>
              <a:t> </a:t>
            </a:r>
            <a:r>
              <a:rPr b="0" lang="en-US" sz="2800" spc="-1" strike="noStrike">
                <a:solidFill>
                  <a:srgbClr val="660066"/>
                </a:solidFill>
                <a:latin typeface="Arial"/>
              </a:rPr>
              <a:t>for Henry and his mother. They climbed  the wide staircase. The master lay in bed with only his head above the quilt. He was very ill. He beckoned them to come  closer. Some slaves were freed by their owners. Henry’s heart beat fast. Maybe the master would set him free. But the master said, You are a good worker, Henry. I am giving you to my son. You must obey him and never tell a lie. Henry nodded, but he didn’t  say thank you. That  would have been a lie.</a:t>
            </a:r>
            <a:endParaRPr b="0" lang="en-US" sz="2800" spc="-1" strike="noStrike">
              <a:solidFill>
                <a:srgbClr val="000000"/>
              </a:solidFill>
              <a:latin typeface="Arial"/>
            </a:endParaRPr>
          </a:p>
        </p:txBody>
      </p:sp>
      <p:pic>
        <p:nvPicPr>
          <p:cNvPr id="51" name="" descr="Caricatur..."/>
          <p:cNvPicPr/>
          <p:nvPr/>
        </p:nvPicPr>
        <p:blipFill>
          <a:blip r:embed="rId1"/>
          <a:stretch/>
        </p:blipFill>
        <p:spPr>
          <a:xfrm>
            <a:off x="838080" y="-77760"/>
            <a:ext cx="2133720" cy="1609560"/>
          </a:xfrm>
          <a:prstGeom prst="rect">
            <a:avLst/>
          </a:prstGeom>
          <a:ln w="0">
            <a:noFill/>
          </a:ln>
        </p:spPr>
      </p:pic>
      <p:sp>
        <p:nvSpPr>
          <p:cNvPr id="5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nry</a:t>
            </a:r>
            <a:endParaRPr b="0" lang="en-US" sz="4400" spc="-1" strike="noStrike">
              <a:solidFill>
                <a:srgbClr val="000000"/>
              </a:solidFill>
              <a:latin typeface="Arial"/>
            </a:endParaRPr>
          </a:p>
        </p:txBody>
      </p:sp>
      <p:pic>
        <p:nvPicPr>
          <p:cNvPr id="53" name="" descr="">
            <a:hlinkClick r:id="" action="ppaction://media"/>
          </p:cNvPr>
          <p:cNvPicPr/>
          <p:nvPr>
            <a:videoFile r:link="rId2"/>
            <p:extLst>
              <p:ext uri="{DAA4B4D4-6D71-4841-9C94-3DE7FCFB9230}">
                <p14:media r:link="rId3"/>
              </p:ext>
            </p:extLst>
          </p:nvPr>
        </p:nvPicPr>
        <p:blipFill>
          <a:blip r:embed="rId4"/>
          <a:stretch>
            <a:fillRect/>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restart="whenNotActive" nodeType="interactiveSeq" fill="hold">
                <p:stCondLst>
                  <p:cond evt="onClick">
                    <p:tgtEl>
                      <p:spTgt spid="53"/>
                    </p:tgtEl>
                  </p:cond>
                </p:stCondLst>
                <p:childTnLst>
                  <p:par>
                    <p:cTn id="26" fill="hold">
                      <p:stCondLst>
                        <p:cond evt="onClick">
                          <p:tgtEl>
                            <p:spTgt spid="53"/>
                          </p:tgtEl>
                        </p:cond>
                      </p:stCondLst>
                      <p:childTnLst>
                        <p:par>
                          <p:cTn id="27" fill="hold">
                            <p:stCondLst>
                              <p:cond delay="0"/>
                            </p:stCondLst>
                            <p:childTnLst>
                              <p:par>
                                <p:cTn id="28" nodeType="clickEffect" fill="hold" presetClass="mediacall" presetID="1">
                                  <p:stCondLst>
                                    <p:cond delay="0"/>
                                  </p:stCondLst>
                                  <p:childTnLst>
                                    <p:cmd type="call" cmd="playFrom(0.0)">
                                      <p:cBhvr>
                                        <p:cTn id="29" dur="48000"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50000">
              <a:srgbClr val="000000"/>
            </a:gs>
            <a:gs pos="100000">
              <a:srgbClr val="8c3d91"/>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nr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r that day  Henry watched a bird soar high above the tree. Free bird! Happy bird!</a:t>
            </a:r>
            <a:endParaRPr b="0" lang="en-US" sz="3200" spc="-1" strike="noStrike">
              <a:solidFill>
                <a:srgbClr val="000000"/>
              </a:solidFill>
              <a:latin typeface="Arial"/>
            </a:endParaRPr>
          </a:p>
        </p:txBody>
      </p:sp>
      <p:pic>
        <p:nvPicPr>
          <p:cNvPr id="56" name="" descr="">
            <a:hlinkClick r:id="" action="ppaction://media"/>
          </p:cNvPr>
          <p:cNvPicPr/>
          <p:nvPr>
            <a:videoFile r:link="rId1"/>
            <p:extLst>
              <p:ext uri="{DAA4B4D4-6D71-4841-9C94-3DE7FCFB9230}">
                <p14:media r:link="rId2"/>
              </p:ext>
            </p:extLst>
          </p:nvPr>
        </p:nvPicPr>
        <p:blipFill>
          <a:blip r:embed="rId3"/>
          <a:stretch>
            <a:fillRect/>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restart="whenNotActive" nodeType="interactiveSeq" fill="hold">
                <p:stCondLst>
                  <p:cond evt="onClick">
                    <p:tgtEl>
                      <p:spTgt spid="56"/>
                    </p:tgtEl>
                  </p:cond>
                </p:stCondLst>
                <p:childTnLst>
                  <p:par>
                    <p:cTn id="32" fill="hold">
                      <p:stCondLst>
                        <p:cond evt="onClick">
                          <p:tgtEl>
                            <p:spTgt spid="56"/>
                          </p:tgtEl>
                        </p:cond>
                      </p:stCondLst>
                      <p:childTnLst>
                        <p:par>
                          <p:cTn id="33" fill="hold">
                            <p:stCondLst>
                              <p:cond delay="0"/>
                            </p:stCondLst>
                            <p:childTnLst>
                              <p:par>
                                <p:cTn id="34" nodeType="clickEffect" fill="hold" presetClass="mediacall" presetID="1">
                                  <p:stCondLst>
                                    <p:cond delay="0"/>
                                  </p:stCondLst>
                                  <p:childTnLst>
                                    <p:cmd type="call" cmd="playFrom(0.0)">
                                      <p:cBhvr>
                                        <p:cTn id="35" dur="10000"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100000">
              <a:srgbClr val="333399"/>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nry</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r on In life Henry  meet   Nancy. Also henry and  Nancy  got married and had 3 kids.One day his wife and kids got sold.One day henry got ship to freedom in a box.</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ada Flowers</a:t>
            </a:r>
            <a:endParaRPr b="0" lang="en-US" sz="3200" spc="-1" strike="noStrike">
              <a:solidFill>
                <a:srgbClr val="000000"/>
              </a:solidFill>
              <a:latin typeface="Arial"/>
            </a:endParaRPr>
          </a:p>
        </p:txBody>
      </p:sp>
      <p:pic>
        <p:nvPicPr>
          <p:cNvPr id="59" name="" descr="">
            <a:hlinkClick r:id="" action="ppaction://media"/>
          </p:cNvPr>
          <p:cNvPicPr/>
          <p:nvPr>
            <a:videoFile r:link="rId1"/>
            <p:extLst>
              <p:ext uri="{DAA4B4D4-6D71-4841-9C94-3DE7FCFB9230}">
                <p14:media r:link="rId2"/>
              </p:ext>
            </p:extLst>
          </p:nvPr>
        </p:nvPicPr>
        <p:blipFill>
          <a:blip r:embed="rId3"/>
          <a:stretch>
            <a:fillRect/>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restart="whenNotActive" nodeType="interactiveSeq" fill="hold">
                <p:stCondLst>
                  <p:cond evt="onClick">
                    <p:tgtEl>
                      <p:spTgt spid="59"/>
                    </p:tgtEl>
                  </p:cond>
                </p:stCondLst>
                <p:childTnLst>
                  <p:par>
                    <p:cTn id="38" fill="hold">
                      <p:stCondLst>
                        <p:cond evt="onClick">
                          <p:tgtEl>
                            <p:spTgt spid="59"/>
                          </p:tgtEl>
                        </p:cond>
                      </p:stCondLst>
                      <p:childTnLst>
                        <p:par>
                          <p:cTn id="39" fill="hold">
                            <p:stCondLst>
                              <p:cond delay="0"/>
                            </p:stCondLst>
                            <p:childTnLst>
                              <p:par>
                                <p:cTn id="40" nodeType="clickEffect" fill="hold" presetClass="mediacall" presetID="1">
                                  <p:stCondLst>
                                    <p:cond delay="0"/>
                                  </p:stCondLst>
                                  <p:childTnLst>
                                    <p:cmd type="call" cmd="playFrom(0.0)">
                                      <p:cBhvr>
                                        <p:cTn id="41" dur="16000"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660066"/>
            </a:gs>
            <a:gs pos="100000">
              <a:srgbClr val="80808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day Henry thought of an idea. Also  his idea is he get in a box and get out of slavery. Also he  was mailed  to no slavery  and he got Pennsyvan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2T19:18:36Z</dcterms:created>
  <dc:creator>test</dc:creator>
  <dc:description/>
  <dc:language>en-US</dc:language>
  <cp:lastModifiedBy>test</cp:lastModifiedBy>
  <dcterms:modified xsi:type="dcterms:W3CDTF">2011-03-28T13:58:28Z</dcterms:modified>
  <cp:revision>8</cp:revision>
  <dc:subject/>
  <dc:title>Slide 1</dc:title>
</cp:coreProperties>
</file>